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41C1-037E-42B6-A671-7A991B9F0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B2C4-1533-453D-B5D2-A02AD07A3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 course code changes from grades 9 and 10  and into grade 11 and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F962-EF2C-4FBA-8B07-24859BB289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C4EA-5AA7-4CA8-B2F7-0CDE17A5B6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indicate summer school course choices on the parental signage sheets with the options cho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not a summer school registration. This will occur in M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093C-BF32-4377-9BE9-586D8905EC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2E8F-DACB-40FB-8261-F82CDF8A3E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8FF8-DFAB-4D44-9BA2-2D8691FE19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936-3A6A-40FD-9253-80688616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D6F-1FD4-4208-9DF9-1259E791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B25-F609-4B8B-9CFE-5C6EF9BD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7FC-1738-4647-BC2B-E7E99FFC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DCE2-4D00-4D29-BFFD-3A00B534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D804-7AC7-4EB2-A843-ADC64D2C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24F7-37D7-4367-8B0C-ED7F8FAD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2E29-B055-41CD-A3FD-1CF6D117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0BBB-572C-4449-9804-6FD7B0DD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BE23-741E-4204-9666-38D9966E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BC0B-EBF9-4D29-BED7-19E75745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329-16C9-4A0F-8910-0DBEE8D5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FA07-0BE4-458F-9466-84B37C3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457F-60B5-482A-BB26-4B2AB3F0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ADAC-D5F6-4872-8414-DDB2CC69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3CD4-FE34-47CD-A56B-4AE27D43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C8F3-8151-49D0-BCAF-6930218A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536-447C-4381-BC6C-0DF41CA5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337-DA44-4E92-AE98-57A44911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080-4F5C-4666-A997-B16F3262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6C7-F325-4E62-B2D2-6552D31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122-111C-45D0-B7C4-E93A5A50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BA4-D82B-4290-A3FA-A18EFB98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606-6A32-4828-9611-47B23823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5460-D98B-4610-B7B4-AC06CEBA70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1AAA-24CA-466B-9892-909CDF12E6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gradient.jpg"/>
          <p:cNvPicPr/>
          <p:nvPr/>
        </p:nvPicPr>
        <p:blipFill>
          <a:blip r:embed="rId1"/>
          <a:stretch/>
        </p:blipFill>
        <p:spPr>
          <a:xfrm>
            <a:off x="228600" y="0"/>
            <a:ext cx="9215280" cy="6985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rest2.gif"/>
          <p:cNvPicPr/>
          <p:nvPr/>
        </p:nvPicPr>
        <p:blipFill>
          <a:blip r:embed="rId2"/>
          <a:stretch/>
        </p:blipFill>
        <p:spPr>
          <a:xfrm>
            <a:off x="3846600" y="2031840"/>
            <a:ext cx="2028600" cy="212724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 8" descr=""/>
          <p:cNvPicPr/>
          <p:nvPr/>
        </p:nvPicPr>
        <p:blipFill>
          <a:blip r:embed="rId3"/>
          <a:stretch/>
        </p:blipFill>
        <p:spPr>
          <a:xfrm>
            <a:off x="658800" y="42840"/>
            <a:ext cx="802152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IBLogo.gif"/>
          <p:cNvPicPr/>
          <p:nvPr/>
        </p:nvPicPr>
        <p:blipFill>
          <a:blip r:embed="rId4"/>
          <a:stretch/>
        </p:blipFill>
        <p:spPr>
          <a:xfrm>
            <a:off x="7678800" y="5659560"/>
            <a:ext cx="1289160" cy="1265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47920" y="45720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4724280"/>
            <a:ext cx="52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urse Selectio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17-2018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B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Levels - Grade 10 </a:t>
            </a:r>
            <a:r>
              <a:rPr b="0" lang="en-CA" sz="4400" spc="-1" strike="noStrike">
                <a:solidFill>
                  <a:srgbClr val="ccecff"/>
                </a:solidFill>
                <a:latin typeface="Wingdings"/>
                <a:ea typeface="Wingdings"/>
              </a:rPr>
              <a:t></a:t>
            </a: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371600"/>
          <a:ext cx="8076960" cy="4191120"/>
        </p:xfrm>
        <a:graphic>
          <a:graphicData uri="http://schemas.openxmlformats.org/drawingml/2006/table">
            <a:tbl>
              <a:tblPr/>
              <a:tblGrid>
                <a:gridCol w="4038840"/>
                <a:gridCol w="4038120"/>
              </a:tblGrid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 &amp; 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 &amp;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ademic (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(U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ed    (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/College (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en       (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lege (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en       (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kplace (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96040" y="5791320"/>
            <a:ext cx="7413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IB</a:t>
            </a: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 will add a E or J at the end of the code (ENG3U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pulsory Credits Required for OSS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10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English, French, International language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Social Science (ex. HSP, HRT)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CWS (ex. geo, history) OR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Guidance or Coop cred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Health and Physical Education,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Arts OR Business Studies OR French OR Coo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Science (Grade 11 or 12)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Technological Education OR French 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Computer Studies (ICS) OR Coo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, collaborativ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 (ex. SBI3C, SCH4C, MAP4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lied degree programs and collaborative programs generally have university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rn an undergraduate/Bachelor’s Degre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BSc, BCom, B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G4U and specific program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ontrac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or what you want to take next ye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earch your post-secondary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and consider teachers’ advice (re: level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e will try to place you in all of your requested courses, but if we cannot, we will use you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lternate choi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gradient.jpg"/>
          <p:cNvPicPr/>
          <p:nvPr/>
        </p:nvPicPr>
        <p:blipFill>
          <a:blip r:embed="rId1"/>
          <a:stretch/>
        </p:blipFill>
        <p:spPr>
          <a:xfrm>
            <a:off x="-9360" y="-6480"/>
            <a:ext cx="9153360" cy="1168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gradient.jpg"/>
          <p:cNvPicPr/>
          <p:nvPr/>
        </p:nvPicPr>
        <p:blipFill>
          <a:blip r:embed="rId2"/>
          <a:stretch/>
        </p:blipFill>
        <p:spPr>
          <a:xfrm>
            <a:off x="0" y="6359400"/>
            <a:ext cx="9153360" cy="517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paw.gif"/>
          <p:cNvPicPr/>
          <p:nvPr/>
        </p:nvPicPr>
        <p:blipFill>
          <a:blip r:embed="rId3"/>
          <a:stretch/>
        </p:blipFill>
        <p:spPr>
          <a:xfrm rot="20052600">
            <a:off x="309600" y="6321600"/>
            <a:ext cx="517320" cy="552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rest2.gif"/>
          <p:cNvPicPr/>
          <p:nvPr/>
        </p:nvPicPr>
        <p:blipFill>
          <a:blip r:embed="rId4"/>
          <a:stretch/>
        </p:blipFill>
        <p:spPr>
          <a:xfrm>
            <a:off x="260280" y="49320"/>
            <a:ext cx="1008000" cy="105732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 9" descr=""/>
          <p:cNvPicPr/>
          <p:nvPr/>
        </p:nvPicPr>
        <p:blipFill>
          <a:blip r:embed="rId5"/>
          <a:stretch/>
        </p:blipFill>
        <p:spPr>
          <a:xfrm>
            <a:off x="3029040" y="-219240"/>
            <a:ext cx="2950920" cy="11638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1"/>
          <p:cNvSpPr/>
          <p:nvPr/>
        </p:nvSpPr>
        <p:spPr>
          <a:xfrm>
            <a:off x="3320280" y="6459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“</a:t>
            </a: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WHAT WE HAVE BEGUN WE SHALL FINISH</a:t>
            </a:r>
            <a:r>
              <a:rPr b="0" lang="en-US" sz="12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3547080" y="91116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“</a:t>
            </a: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QUAD INCEPIMUS CONFIEMUS”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15" descr="paw.gif"/>
          <p:cNvPicPr/>
          <p:nvPr/>
        </p:nvPicPr>
        <p:blipFill>
          <a:blip r:embed="rId6"/>
          <a:stretch/>
        </p:blipFill>
        <p:spPr>
          <a:xfrm rot="20052600">
            <a:off x="8277120" y="6321240"/>
            <a:ext cx="517680" cy="552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IBLogo.gif"/>
          <p:cNvPicPr/>
          <p:nvPr/>
        </p:nvPicPr>
        <p:blipFill>
          <a:blip r:embed="rId7"/>
          <a:stretch/>
        </p:blipFill>
        <p:spPr>
          <a:xfrm>
            <a:off x="7977240" y="104760"/>
            <a:ext cx="990720" cy="9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8"/>
          <a:stretch/>
        </p:blipFill>
        <p:spPr>
          <a:xfrm>
            <a:off x="1533600" y="1268280"/>
            <a:ext cx="60372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B Requir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must take 6 IB cour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1: Language and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2: Language Acqui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3: Individuals and Socie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4: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5: Mathema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6: Arts or El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inimum of three at the HL (may be up to 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You must take the Theory of Knowledge course (HZT4UE) (Grade 11-IB1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C.A.S. requirement (Creative/Active/Servic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an Extended Essay and TOK pap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L or S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programs are taught at the Higher Level (H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 can be written at the Standard Level (SL) – Maximum 2 SL exams in IB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ision on level is finalized i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ctober of IB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you register for ex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up 1: Language and Litera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2286000"/>
          <a:ext cx="8762760" cy="3200400"/>
        </p:xfrm>
        <a:graphic>
          <a:graphicData uri="http://schemas.openxmlformats.org/drawingml/2006/table">
            <a:tbl>
              <a:tblPr/>
              <a:tblGrid>
                <a:gridCol w="1752120"/>
                <a:gridCol w="1752480"/>
                <a:gridCol w="1753560"/>
                <a:gridCol w="1752480"/>
                <a:gridCol w="1752120"/>
              </a:tblGrid>
              <a:tr h="1066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lish A: Standard Level or Higher Leve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1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2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3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4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2: Language Acquis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1447920"/>
          <a:ext cx="8458200" cy="1312920"/>
        </p:xfrm>
        <a:graphic>
          <a:graphicData uri="http://schemas.openxmlformats.org/drawingml/2006/table">
            <a:tbl>
              <a:tblPr/>
              <a:tblGrid>
                <a:gridCol w="1690920"/>
                <a:gridCol w="1357200"/>
                <a:gridCol w="1447920"/>
                <a:gridCol w="1676160"/>
                <a:gridCol w="22860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  (must be SL exa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2280" y="4876920"/>
          <a:ext cx="8534520" cy="177624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699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A:  Standard Level or Higher Level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Students will be given the opportunity to write French B H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52280" y="3048120"/>
          <a:ext cx="8534520" cy="140652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03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990720"/>
          <a:ext cx="8458200" cy="29448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can move the grade 11 and 12 course into grades 10 and 11.  IF the student chooses this option, the exam will be written in grade 11 and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e a SL exa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52280" y="4267080"/>
          <a:ext cx="8534520" cy="144792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414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N4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Y4U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2860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1143000"/>
          <a:ext cx="8534160" cy="19191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633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Technology in a Global Society (ITGS):  Standard Level ON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IJ1O or 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3880"/>
          <a:ext cx="8458200" cy="15984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olog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E (SL or H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52280" y="5105520"/>
          <a:ext cx="8534520" cy="15922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s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E (SL or H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52280" y="3352680"/>
          <a:ext cx="8534160" cy="152424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7840"/>
                <a:gridCol w="1706760"/>
                <a:gridCol w="1706400"/>
              </a:tblGrid>
              <a:tr h="495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mist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1/2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920" y="1143000"/>
          <a:ext cx="8534160" cy="19191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rts and Exercise Science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 grade 11 Science (preferably Biolog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5: Mathematic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2280" y="990720"/>
          <a:ext cx="8458200" cy="169056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5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Studie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 or 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 or 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may take MDM4U, *MHF4U, MCV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co/pre-req to MC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52280" y="494352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52280" y="3048120"/>
          <a:ext cx="8534520" cy="171432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3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lephant in the Room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“To IB or Not To IB…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der all avenues available for you to find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nd the best fit for your academic and personal ne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ak openly with your parents and Guidance about your conc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5334120"/>
            <a:ext cx="2301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2468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277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6: Arts/Electiv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280" y="1600200"/>
          <a:ext cx="8458200" cy="15494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265400"/>
                <a:gridCol w="211932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AMU3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E and AMR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AMU4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E and AMR4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4943520"/>
          <a:ext cx="8534520" cy="15922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52280" y="3352680"/>
          <a:ext cx="8534520" cy="140976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6: Arts/Elec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04920" y="1143000"/>
          <a:ext cx="8534160" cy="16095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lm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 or TGJ1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632160" y="3308400"/>
            <a:ext cx="73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:  students may also select a second group 2 or 3 or 4 sub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ubstitute for a Group 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 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SM – Arts and Cul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167652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ertification and in-depth training in a chose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ployment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pathways/level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OSS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2209680"/>
            <a:ext cx="693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Verdana"/>
              </a:rPr>
              <a:t>Career Cruis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Verdana"/>
              </a:rPr>
              <a:t>(www.careercruising.com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Verdana"/>
              </a:rPr>
              <a:t>Follow link on www.colonelby.co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09480" y="914400"/>
          <a:ext cx="7925040" cy="57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92504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4479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nting after submitting i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ssential to final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urse selection proc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mmer School intention, Media Consent, Use of Technology agreement will also print and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t be signed by student and par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submitted along with course selection p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If an override is required </a:t>
            </a: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in order to submit, students must see Guidance Counsellor. This will be necessary for program changes and when online learning is select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Please submit by 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February 24</a:t>
            </a:r>
            <a:r>
              <a:rPr b="1" lang="en-CA" sz="28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, 2017</a:t>
            </a:r>
            <a:r>
              <a:rPr b="1" lang="en-C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to Subject teachers (in class where course presentation occurred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rstanding your Credit Counseling Summary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rren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see IB course guide online at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ibcb.ca/ibcourseguide20142015.pdf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Course Guide (course descriptio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pril/May registration completed online through Career Cruising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each Ahead and Make u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uly (3.5 week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stly compulsory courses with some electiv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licts may occur. Choose alterna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ority is given to compulsory credits/ graduation requirem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course choices careful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nges are not always pos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an appointment with guid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earch your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uss recommended course levels with teach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ll out a course planning she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mindful of balan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will I achieve the strongest success BIG PICTUR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uss options with par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ointments can be booked online at www.colonelby.com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min--Guida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ill.badgery@ocdsb.ca  (A-F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rah.storey@ocdsb.ca  (G-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chel.nakashoji@ocdsb.ca (P-Z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Verdana"/>
              </a:rPr>
              <a:t>Thank you.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Slides shows and resources available at www.colonelby.c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(Admin- Guidance- Course select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Planner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6" name="Rectangle 43"/>
          <p:cNvGraphicFramePr/>
          <p:nvPr/>
        </p:nvGraphicFramePr>
        <p:xfrm>
          <a:off x="1058760" y="1600200"/>
          <a:ext cx="70246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Rectangle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600200"/>
                    <a:ext cx="70246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read a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rst three letters are the subj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G  = Eng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VI   = Visual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BI    = Biolo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Indicates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= 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 = 1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= 1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4  =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. ENG3U  LWSDU  SCH4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C32954</cp:lastModifiedBy>
  <dcterms:modified xsi:type="dcterms:W3CDTF">2017-02-09T19:53:24Z</dcterms:modified>
  <cp:revision>73</cp:revision>
  <dc:subject/>
  <dc:title>Option sheets 2014-2015</dc:title>
</cp:coreProperties>
</file>